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ADC-45AF-423D-9C5A-193FA85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0E6-FDB0-4F91-87F3-B8D486F6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ED6A6-ABFE-4C20-8DDD-1C553E3D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2C3C8-428D-4961-B95D-30BBE15C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E125-3759-42E6-AD2B-C29813D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1D7D2-C796-4162-8AF2-817FB11E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D1D97-4DC8-442C-A30E-6445529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C52A0-1A1D-4906-9CAB-59A9601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9113F-808A-4740-8DC6-45BBBED8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74794-98EB-45E6-867A-8953D7EE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E1D18-7E8C-4DA4-9382-13DE347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3E79B-F8F7-4CAD-BC3D-F023A271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C2C-7B5A-419F-9A7B-DF4EF108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E3EB1-532D-45FA-B4DA-96E1EF7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E5288-28D3-4FDF-A600-D84CDEAF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9A423-23A5-4C18-A463-3B37D31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D86AC-473D-4A97-BDC1-FF7A469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9CB44-0FC0-4EBA-893C-97B38053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AAF9F-581F-414A-8568-B731936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3782-FF7D-40F5-93BB-082B0C9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9B082-0FF9-4CB1-9214-1AF2B49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A764A-7DF7-46E9-AEBE-CFC5DE0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D38C5-3F12-43FE-8598-69B22BA0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5E0-3586-4D80-A9A0-E5D1A11B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5A033-D522-4F8D-8E36-9ADEED10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777D-BFE2-4D50-B8BF-AF3FDF55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D917-D9B5-45AD-BBE9-9321C5A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80513-A2D4-403E-BCDD-A23B9CD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E7594-AE78-4A42-B30A-A1BCE1C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0BF4C-58F2-458F-A76E-FCA6D116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7D80-0877-4A36-A32F-F9DC4247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FECC-69BC-402F-9FF8-529BCEE3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C3B6-B4BA-4CD7-B8D8-FEC99D70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F3F96-E99A-4EC6-9982-23F7D58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E617-4A36-4F5C-B5C5-8B8451D8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CA0C7-B820-4E05-9065-F5C245A1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3D51D-5B0D-4B9C-B49C-CE86390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E33A-1297-4E71-8683-52C2C862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BF9E5-3C86-4EDD-AB7D-C07E3290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B3527-7413-4E22-A5F2-D6B3BE71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B1128-B708-437F-BEB0-530D092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5564C-E095-4FBC-9312-5D06B286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4A003-2359-44DB-BD41-B8A3031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E53A9-1502-4F26-B15A-08120258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51D8C-1F8D-4C09-845E-61CB030D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042C-722E-4446-B9A6-F0ABBEC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9FE83-1EB6-48A0-B881-AAB3662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F1690-1E59-49FD-8531-317BDB5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91657-CF13-45BB-9E97-07494EE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3FB7C-174D-4EE6-89F4-307E87AA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AA057-EE41-49AE-AE65-8A18EA4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ED2CE-FAEA-457B-8646-7AF20424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3E70F-7D6A-497B-BE9A-2E03FFB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2BDDC-4E30-4D45-B3E5-484044B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F90B9-AE92-4AE3-869C-F0B19528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6A532-F81C-4B96-A9A3-07C4FA24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015-B85F-495E-875F-43A9314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1D5E6-FCFE-4844-A896-5505020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9A1C1-FAC8-4EBE-B4C6-F48A339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B514C-2C15-4631-BE4C-D99D65F3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1C164-0FDD-4BB9-B2F5-D117543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F76E6-2229-4403-A795-8ABAA292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7BC18-D588-4FEA-A488-254290E2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BD45F-8584-4EE6-85C4-0B8F698E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943DC-4D9A-4831-AB72-58555C78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454AC-472F-4D3F-832E-667AB6A8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FC87C-D091-4FD3-88FC-993F5A7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1C8-5A58-497D-BB35-86B81A0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6B936-A1D8-41A5-AF0C-03B4409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ACD4B-CA7A-45C3-86DA-D6348156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2CB39-1014-47C2-B739-027C4C13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E54DB-94CF-4691-AB64-D9C45505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99906-3888-4D7C-8859-0CF8E75A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53D94-17B9-4F9B-9130-8BA838C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52558-604C-4644-811E-EA17A74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95677-FD6C-4214-9B65-6D5D2BD3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EC17C-5406-44AE-AF6B-4A5D9FC5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05A61-4827-43BD-88C4-15A8A099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2B4-B0C7-40B5-B62B-B238B78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997CA-1F7E-45E5-BA5B-61759F8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4E9D5-A17E-43E1-A393-0AFE1D4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FB96B-C4B6-48C6-B880-720F32F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D4A4B-B418-4D86-A805-601D6C1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5A359-3B7B-4262-A67F-4D10567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A42D9-688C-4B70-8531-B83078D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607D6-392A-4768-8F33-514D387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C05DB-FFF3-429C-AFF9-31FD56F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CA4B6-1A3B-48CF-87CD-2920211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E433B-DA4E-4661-A9A1-95D93BDB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89E-5B52-4B6E-BBA5-2992646F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CC3F0-70F3-45F0-93FF-9D4CC990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1319F-D490-461A-AB05-ED36D639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10F6F-C477-4FC0-942A-9E26C08B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AB885-D3E4-4DAD-872F-1AEF661B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19C68-8567-4A5F-9C38-3C0925DB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19E64-AC77-4BD6-AA15-6EC11EE4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98B40-A920-4DBB-A307-C5EDD85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DA65B-71E3-4CEA-B186-251D163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D23FC-156F-4715-A053-03D5B0D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ECFFF-72DA-46D9-A0CF-D4D36922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AD5-6705-466B-B33F-D50184F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D47C3-1714-4D6F-9EAA-8F670E57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DC5CE-7703-4103-BF9B-FEA861FD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1C227-E782-4000-9AEF-E8489967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9CD50-12B5-4F64-9AA4-215CB49C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43CD0-D1F3-4A61-88D9-F8E960BC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B9E69-30CB-4896-B3BE-3061274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23BE0-0CF3-4D00-8B47-F0F2A1B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354BC-C2F3-4915-81D3-2ACF134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7994F-7FB2-4A9C-8902-778FF11D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CDC46F-EC91-41F1-AA07-7F9D623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37A-71C4-4C65-995D-B606AE6F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3B23-FA3B-4CDB-BADF-B1C4FDE1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10A39-D2E4-430E-9C30-902E338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E1B91-B816-4129-87DD-3FDC55A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B0FEB-CA61-4BFE-B829-2D707BC5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6FE96-8308-43F6-B16C-1441F8FE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44CD4-7BD8-4234-9532-1AB0D8AC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DA989-C48A-4952-804A-5F9280A5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BB2A2-B52F-4270-9B76-ED996CA9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C6294-CF95-4B3C-82B1-AF54745D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C22E5-4754-400D-85BB-37ACAFA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DE1EF-55D9-4B21-8705-C18A4F7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A2ED-F880-4F98-A6A0-A19976D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CBD08-61E5-47F5-99B9-EC6A110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07AD5-BE2A-4BF5-ABB8-3EFCDAF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80E5F-9F21-438B-9921-5BFA712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7109F-3119-41DA-92E2-0E8BA77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6AFEC-FD07-49F2-B170-49458EEC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001ED-5CD4-42A3-BC51-3D675E76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ADA2F-8283-4A0B-8559-4C8864F5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34BC0-D78D-4E16-B282-08B11556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D2079-6002-4581-AA55-D6349C6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83AB7-AC8B-4B15-B563-6791F86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199-D137-45C0-A231-7501F0D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B121B-F5F2-410B-9B3A-3347B381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309F6-FC7E-4886-8375-D4058DBD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147B4-EA71-4431-983A-2E010454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B9002-E09C-4575-AAA6-F43428E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182E2-64A2-45B0-AFD3-677C0AC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7C2C6-8242-4E39-A042-279814A5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125AA-C7E8-4440-9E7D-67F817FF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90A97-1D1B-47F4-A03F-54A6C35B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1AD65-CF4C-4674-97FA-3C0F0C91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87C5D-7E34-43E1-948A-8DFFB5A6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860-821D-401A-9FDA-6872A3E8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7D6B2-2309-4AB7-8BF9-34B673A0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88B55-D1A1-45FD-90C2-3402A88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32A6B-B5F1-4A2E-8673-AED19DD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31FEC-03D9-434B-A888-AB19D73F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B5A8B-07B6-40FF-B2E0-70479F97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120FE-5E03-458C-99FE-BBB9905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003D2-F690-4408-9866-0412EB7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AC815-1CF3-4EC5-9FF9-633856B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E883A-54AC-4133-8A62-96733FB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0DBEE-4273-40D9-B076-C5AF1DFB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33D-AEF5-4D6C-B714-9E54ACBC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2CEFA-76C5-4E9D-B048-78A2BD0C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60C68-A97A-420E-81D0-03880EDC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6FDB8-C875-420C-B8C4-A974105F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B880E-A054-4756-8B48-8C86192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40238-B535-427E-A773-F83D9675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378C9-D9BE-4ED8-96BA-807BB583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FF552-6820-484B-A8EE-30C7EC7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E563C-C849-4ED3-B08E-271B619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17E10-B224-45ED-BDE5-32FA723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4B853F-07D4-45D2-BC81-A07D629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31BD-6BC1-4D03-8FD2-6D6FE1F6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B9F4E-16DC-4548-A28A-78BFFA2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16E34-DE92-4EF9-9150-A78CEB22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B338A-3ABD-4AAF-B264-98795515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39D6-1780-4C72-BA07-55C0FADF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43C7-521F-4738-B9A4-E2021A7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9A53-70B9-4F7D-A528-55C1F40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E169-3288-4B3B-9F29-A87D5E4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556-A65B-49CC-A00D-3F480FC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7858-5F7E-4CB4-9F16-8B90DAE1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701D-A3AC-4BA4-BF5E-852FA7B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1540-43FD-4DCE-9554-CF60419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5A56-B3A5-4747-A3F3-9EE1030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B9D7-1FA4-4000-B8D6-AF36C52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B333-D89A-4E8B-A851-3BA7B2DB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DE9F-7A5B-4061-AF3D-6449641B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0F77-6EE2-47CE-BEF2-0FA131E2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46F6-9018-49FE-9400-EE4B7921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93A9-C5E2-4DD4-A3C6-0A18C7BB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619-9D5D-4305-B14F-4CFAFE9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6139-B403-4FD9-8559-6CBC375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00CA-ACA1-4B6B-9C93-E3327C3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2C36-0482-4C32-B8D6-80F13EA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3783-837D-4192-9053-77C1A07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623D-B7B5-4992-B6FB-1B0B1D0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40EB-3903-481C-B9DA-5D414D4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3B76-328D-43CE-8D32-005DB89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45C9-B274-4A0D-BD27-EDAEC8EC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D9D5-FB36-4A7C-A1C4-324A192F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143B-73D4-4EA7-B8A8-72159C1F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40F-F3A0-4F07-875D-B5B1CF2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65CB-DC32-41C7-88DC-0791022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9E8A1-7213-4E66-9AD1-BD0FF83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47FA1-7535-4A36-AA97-C5DFAFB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4247-ED44-41AE-877C-40D836FE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53F2-8D45-4743-B732-E6AA8B2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2E1B-9456-47E9-BEB2-BED946D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FA58-8ACB-4A46-B651-D5B7FFB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32E2-24CB-471E-86B8-A592B47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57AF-ACC4-447B-B398-5C54579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890D-32D5-41FA-A852-08A939B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992-18BB-4B04-AC7E-74B31F54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3DB1-140D-4C14-A831-B8EBDFA2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4A4D-C853-48C4-95A7-CDF779D0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1BD8-C4A5-4FE4-B693-6FDF0EB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7CE0-697A-4CC7-BA80-4277DDE7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8C84-52F6-414C-BD90-6D67235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DF31-04CB-4A8C-8681-D3A9785C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916A-C17A-44AA-95F5-133A34AF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9767-1D12-47D7-B439-05EA3D0E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CEC5-2B28-406A-B11E-C6E2988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9224-647D-4785-9C51-FA6CCDD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839-2F06-4AE5-8531-40B53706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F255-2222-4F1C-87E2-05D34F5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C750-E7A9-46B3-B986-F1E78080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6628-1EF3-4A84-954E-DC58B5E2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E54D-053A-40C9-928F-2CF76EC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D8F00-A454-42AD-AB8A-504FCA05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8F85-5FFC-4AE6-81DF-8EE9E75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76CFB-207C-465F-84A1-3867DE2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0C6D-9A05-4990-91C8-719C8F8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85FB-AA2B-489C-B7BE-B33A04F8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09C84-DFE2-4682-B700-7FB3DAE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085-F7CC-4AF6-8E2A-1CFD940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4BCF-15A9-479C-9A4A-4645EA1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B8C9C-B7FC-4C22-830A-828A510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8581-61DB-46C1-95A0-E9784F5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2A4F-8280-4C47-9684-A290D551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69D1-4230-410E-BEC6-09817D36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A776-54ED-4945-B78C-F20B4993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1506-8B4C-47AF-B653-2F5BFFA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E27C9-0A77-4554-8DA6-5DF179B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EB92-66E8-4931-8F35-FBC41BA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D134-E709-4527-B54F-B8955CC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84C-CAAA-47A4-8236-3E8C7C6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BD8E-4EE7-4DCA-9B00-C027731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A2E1-6242-4D05-8EB9-107DD1E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E07E-F91A-4035-AC2D-1C38C5D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73D1-882D-4D88-B85B-216171E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D47A-8D3E-4A69-BB60-419A783C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4337-0037-4B59-BC9A-E5CD7FA5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06F6-2ECD-4B52-B073-FA47149B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0E9E-CBF0-4E85-8DD1-E108EC4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4F323-732A-4E54-9A67-8439932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A7D9-2941-42D2-A6B8-CE6233C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3DA-7512-4726-BB4B-418F6AC03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193B-B008-4291-9931-87FDE0CA3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78DA-2FF8-45EF-9FF3-7607394E2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022-433C-4BB1-BAA6-F4A6F5779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581B-9CC5-46A6-BD39-6360CCC5C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660-D6FE-4422-AF3C-1F4FA178E6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6F0-476B-4417-9308-D505E793F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E99-AB1E-4D1E-B36F-FFB95903D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F33-CCA1-413B-80E2-825C8889A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5F15-BD30-43C2-87FB-082918002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939-977A-491E-86AB-3C7A86A59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BAF-E266-4C6C-BDFF-B75EECF44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D97-C012-4BC7-80CB-CD0422F88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5133-28BB-4888-A8CA-FB9046992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9EE-F7D2-4E9B-BE1E-BEC3EBF16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906-89FE-4EE0-A0DD-53E07ABA2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D07A-2464-4746-BE77-9181EC50E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013-D7B5-4D00-80B9-F5547B329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CF2-FE44-4CE8-BC66-34010AFE4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47F-0D54-4432-9818-C8B01C842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EA8-8AE6-4950-A966-7967BA65B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217-0FCA-4B8B-9413-A306F2874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B0B9-6F4B-4027-BBE0-45C605425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4E8-D84F-4517-84DE-C0E566025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EA3-CAA3-4254-8A5D-6FC59C0AC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AE4C-6777-4DB2-8E9F-284D2C403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DFD-BDD9-4B0B-82A9-E3EA5A2F21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A02C-544A-459A-8881-007C84031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A49-B2BF-4EB7-B015-4074E004B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C184-AB82-4BA7-AB7A-F332DD9DD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0FA-7C4F-46CF-84C5-513CF41F8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1B84-7F88-4604-B80D-76DE715F7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A44-D41D-4948-85CA-CBE4BCE75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370-B342-4998-A419-A1E47A4BE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455-B1A4-419F-91D2-09C8D6841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CE8-F53A-49E8-A103-65702AB0A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67BF-B5E3-4C85-BE52-CBC531F23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7274-DFF9-40C8-8B51-D767AF16BF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CC7-8156-4A3D-8ECF-0F7D66244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285-841E-4211-BBDF-5781E649B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3005280"/>
            <a:ext cx="4581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68580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080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835280" y="4797360"/>
            <a:ext cx="71892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602136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283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012000" y="43070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71440" y="95400"/>
            <a:ext cx="8188200" cy="6573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255600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16360" y="6165720"/>
            <a:ext cx="1008000" cy="505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8808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68808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7048440" y="6165720"/>
            <a:ext cx="10080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309600" y="1886040"/>
            <a:ext cx="8524800" cy="308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826920" y="362916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662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309600" y="797040"/>
            <a:ext cx="8524800" cy="5800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71640" y="53881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6151680"/>
            <a:ext cx="605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71440" y="243000"/>
            <a:ext cx="8601120" cy="6372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300720" y="309708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6165720"/>
            <a:ext cx="7490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28680" y="1209600"/>
            <a:ext cx="8486640" cy="4438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48840" cy="200988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762960" cy="193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211640" y="16858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183200" y="263700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948360" y="1700280"/>
            <a:ext cx="432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948360" y="2608200"/>
            <a:ext cx="287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268360" y="4149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254320" y="499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5219640" y="5013360"/>
            <a:ext cx="6048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831708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345520" y="4897440"/>
            <a:ext cx="604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4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